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AEB-7067-4352-B810-2511665A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FED-B2AF-48F4-92AF-0838B0D0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66E-E8BF-474F-9C14-A6C01D23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BD1-FC18-4C3A-B6AC-6E23591B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635C-46DF-4222-8E93-54190209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89B3-CA11-497F-BA4D-C712F27B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0622-80D5-47B8-84BF-AACE3ACC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4262-1A87-434F-998C-A655927D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1BC-A4B6-498B-A23A-C3FE1DA0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0EED-ACC5-4FA1-A214-F94E5613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0A45-A611-4257-81BF-68C48BC5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271-A862-45F9-9152-91F9380C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2926-5D46-48F4-AFF8-3B3C597C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C6FB-65C2-4D23-942C-6D6D468F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041F-4C8E-4D72-9879-F6A19FF0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D8F2-7E51-4CD1-BDFD-CAFD537D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CDA7-97AA-4122-9D55-83944BC0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0DF-40F4-4CE3-BD0D-17A5259B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C33-4CBF-41E8-96EF-071E102E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3D5-05D5-4D9A-A0A7-EBFCCB52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442-88DA-47DB-A0A4-0B8120DF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B12-2694-4208-BDDC-66F9FDE2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490-38D8-419E-B617-655191B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6BD-08CA-453E-A300-9C658831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DF2D-BC91-478F-93A2-6F3C189AE2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F96C-53FF-4951-AB30-BA2C79FEFD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680" y="21333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issing ang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4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0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___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1360" y="2714760"/>
            <a:ext cx="438480" cy="366480"/>
          </a:xfrm>
          <a:custGeom>
            <a:avLst/>
            <a:gdLst/>
            <a:ahLst/>
            <a:rect l="l" t="t" r="r" b="b"/>
            <a:pathLst>
              <a:path w="1217" h="1018">
                <a:moveTo>
                  <a:pt x="9947" y="8012"/>
                </a:moveTo>
                <a:cubicBezTo>
                  <a:pt x="9947" y="7907"/>
                  <a:pt x="9953" y="7802"/>
                  <a:pt x="9847" y="7739"/>
                </a:cubicBezTo>
                <a:cubicBezTo>
                  <a:pt x="9647" y="7619"/>
                  <a:pt x="9458" y="7983"/>
                  <a:pt x="9475" y="8136"/>
                </a:cubicBezTo>
                <a:cubicBezTo>
                  <a:pt x="9500" y="8161"/>
                  <a:pt x="9525" y="8185"/>
                  <a:pt x="9550" y="8210"/>
                </a:cubicBezTo>
                <a:cubicBezTo>
                  <a:pt x="9764" y="8148"/>
                  <a:pt x="9867" y="8118"/>
                  <a:pt x="9922" y="7888"/>
                </a:cubicBezTo>
                <a:cubicBezTo>
                  <a:pt x="9922" y="7880"/>
                  <a:pt x="9922" y="7871"/>
                  <a:pt x="9922" y="7863"/>
                </a:cubicBezTo>
                <a:cubicBezTo>
                  <a:pt x="9913" y="8088"/>
                  <a:pt x="9880" y="8309"/>
                  <a:pt x="9872" y="8533"/>
                </a:cubicBezTo>
                <a:cubicBezTo>
                  <a:pt x="9872" y="8541"/>
                  <a:pt x="9872" y="8550"/>
                  <a:pt x="9872" y="8558"/>
                </a:cubicBezTo>
              </a:path>
              <a:path w="1217" h="1018">
                <a:moveTo>
                  <a:pt x="10096" y="7813"/>
                </a:moveTo>
                <a:cubicBezTo>
                  <a:pt x="10145" y="7750"/>
                  <a:pt x="10312" y="7503"/>
                  <a:pt x="10418" y="7541"/>
                </a:cubicBezTo>
                <a:cubicBezTo>
                  <a:pt x="10435" y="7557"/>
                  <a:pt x="10451" y="7574"/>
                  <a:pt x="10468" y="7590"/>
                </a:cubicBezTo>
                <a:cubicBezTo>
                  <a:pt x="10467" y="7785"/>
                  <a:pt x="10445" y="7885"/>
                  <a:pt x="10269" y="7987"/>
                </a:cubicBezTo>
                <a:cubicBezTo>
                  <a:pt x="10328" y="7857"/>
                  <a:pt x="10522" y="7776"/>
                  <a:pt x="10641" y="7962"/>
                </a:cubicBezTo>
                <a:cubicBezTo>
                  <a:pt x="10779" y="8177"/>
                  <a:pt x="10610" y="8464"/>
                  <a:pt x="10393" y="8533"/>
                </a:cubicBezTo>
                <a:cubicBezTo>
                  <a:pt x="10302" y="8533"/>
                  <a:pt x="10261" y="8566"/>
                  <a:pt x="10269" y="8508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70200" y="3687840"/>
            <a:ext cx="401760" cy="339480"/>
          </a:xfrm>
          <a:custGeom>
            <a:avLst/>
            <a:gdLst/>
            <a:ahLst/>
            <a:rect l="l" t="t" r="r" b="b"/>
            <a:pathLst>
              <a:path w="1117" h="944">
                <a:moveTo>
                  <a:pt x="10418" y="10517"/>
                </a:moveTo>
                <a:cubicBezTo>
                  <a:pt x="10511" y="10460"/>
                  <a:pt x="10587" y="10426"/>
                  <a:pt x="10691" y="10393"/>
                </a:cubicBezTo>
                <a:cubicBezTo>
                  <a:pt x="10719" y="10614"/>
                  <a:pt x="10659" y="10820"/>
                  <a:pt x="10492" y="10988"/>
                </a:cubicBezTo>
                <a:cubicBezTo>
                  <a:pt x="10465" y="11015"/>
                  <a:pt x="10222" y="11217"/>
                  <a:pt x="10195" y="11137"/>
                </a:cubicBezTo>
                <a:cubicBezTo>
                  <a:pt x="10360" y="11050"/>
                  <a:pt x="10539" y="10980"/>
                  <a:pt x="10716" y="11112"/>
                </a:cubicBezTo>
                <a:cubicBezTo>
                  <a:pt x="10724" y="11129"/>
                  <a:pt x="10732" y="11145"/>
                  <a:pt x="10740" y="11162"/>
                </a:cubicBezTo>
              </a:path>
              <a:path w="1117" h="944">
                <a:moveTo>
                  <a:pt x="10889" y="10517"/>
                </a:moveTo>
                <a:cubicBezTo>
                  <a:pt x="10889" y="10576"/>
                  <a:pt x="10875" y="10451"/>
                  <a:pt x="10864" y="10393"/>
                </a:cubicBezTo>
                <a:cubicBezTo>
                  <a:pt x="10945" y="10329"/>
                  <a:pt x="11036" y="10341"/>
                  <a:pt x="11137" y="10319"/>
                </a:cubicBezTo>
                <a:cubicBezTo>
                  <a:pt x="11233" y="10295"/>
                  <a:pt x="11262" y="10289"/>
                  <a:pt x="11311" y="10244"/>
                </a:cubicBezTo>
                <a:cubicBezTo>
                  <a:pt x="11272" y="10551"/>
                  <a:pt x="11161" y="10836"/>
                  <a:pt x="11088" y="11137"/>
                </a:cubicBezTo>
                <a:cubicBezTo>
                  <a:pt x="11088" y="11154"/>
                  <a:pt x="11088" y="11170"/>
                  <a:pt x="11088" y="11187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9040" y="4581360"/>
            <a:ext cx="27000" cy="276480"/>
          </a:xfrm>
          <a:custGeom>
            <a:avLst/>
            <a:gdLst/>
            <a:ahLst/>
            <a:rect l="l" t="t" r="r" b="b"/>
            <a:pathLst>
              <a:path w="75" h="770">
                <a:moveTo>
                  <a:pt x="10914" y="12725"/>
                </a:moveTo>
                <a:cubicBezTo>
                  <a:pt x="10958" y="12914"/>
                  <a:pt x="10942" y="13123"/>
                  <a:pt x="10964" y="13320"/>
                </a:cubicBezTo>
                <a:cubicBezTo>
                  <a:pt x="10983" y="13419"/>
                  <a:pt x="10991" y="13435"/>
                  <a:pt x="10988" y="13494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33960" y="3367080"/>
            <a:ext cx="1430280" cy="527040"/>
          </a:xfrm>
          <a:custGeom>
            <a:avLst/>
            <a:gdLst/>
            <a:ahLst/>
            <a:rect l="l" t="t" r="r" b="b"/>
            <a:pathLst>
              <a:path w="3969" h="1465">
                <a:moveTo>
                  <a:pt x="14610" y="9351"/>
                </a:moveTo>
                <a:cubicBezTo>
                  <a:pt x="14629" y="9583"/>
                  <a:pt x="14644" y="9814"/>
                  <a:pt x="14660" y="10046"/>
                </a:cubicBezTo>
                <a:cubicBezTo>
                  <a:pt x="14660" y="10063"/>
                  <a:pt x="14660" y="10079"/>
                  <a:pt x="14660" y="10096"/>
                </a:cubicBezTo>
              </a:path>
              <a:path w="3969" h="1465">
                <a:moveTo>
                  <a:pt x="14436" y="10393"/>
                </a:moveTo>
                <a:cubicBezTo>
                  <a:pt x="14480" y="10544"/>
                  <a:pt x="14504" y="10659"/>
                  <a:pt x="14511" y="10815"/>
                </a:cubicBezTo>
              </a:path>
              <a:path w="3969" h="1465">
                <a:moveTo>
                  <a:pt x="14263" y="10592"/>
                </a:moveTo>
                <a:cubicBezTo>
                  <a:pt x="14517" y="10515"/>
                  <a:pt x="14605" y="10489"/>
                  <a:pt x="14784" y="10468"/>
                </a:cubicBezTo>
              </a:path>
              <a:path w="3969" h="1465">
                <a:moveTo>
                  <a:pt x="17884" y="10244"/>
                </a:moveTo>
                <a:cubicBezTo>
                  <a:pt x="18000" y="10237"/>
                  <a:pt x="18114" y="10225"/>
                  <a:pt x="18231" y="10220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41960" y="3081240"/>
            <a:ext cx="822240" cy="1187640"/>
          </a:xfrm>
          <a:custGeom>
            <a:avLst/>
            <a:gdLst/>
            <a:ahLst/>
            <a:rect l="l" t="t" r="r" b="b"/>
            <a:pathLst>
              <a:path w="2283" h="3300">
                <a:moveTo>
                  <a:pt x="14957" y="9277"/>
                </a:moveTo>
                <a:cubicBezTo>
                  <a:pt x="15202" y="9306"/>
                  <a:pt x="15503" y="9392"/>
                  <a:pt x="15329" y="9723"/>
                </a:cubicBezTo>
                <a:cubicBezTo>
                  <a:pt x="15216" y="9938"/>
                  <a:pt x="15063" y="9922"/>
                  <a:pt x="14883" y="9897"/>
                </a:cubicBezTo>
                <a:cubicBezTo>
                  <a:pt x="14940" y="9693"/>
                  <a:pt x="15081" y="9612"/>
                  <a:pt x="15255" y="9823"/>
                </a:cubicBezTo>
                <a:cubicBezTo>
                  <a:pt x="15263" y="9848"/>
                  <a:pt x="15272" y="9872"/>
                  <a:pt x="15280" y="9897"/>
                </a:cubicBezTo>
              </a:path>
              <a:path w="2283" h="3300">
                <a:moveTo>
                  <a:pt x="15850" y="9103"/>
                </a:moveTo>
                <a:cubicBezTo>
                  <a:pt x="15775" y="9125"/>
                  <a:pt x="15608" y="9139"/>
                  <a:pt x="15553" y="9203"/>
                </a:cubicBezTo>
                <a:cubicBezTo>
                  <a:pt x="15486" y="9314"/>
                  <a:pt x="15461" y="9340"/>
                  <a:pt x="15478" y="9426"/>
                </a:cubicBezTo>
                <a:cubicBezTo>
                  <a:pt x="15635" y="9394"/>
                  <a:pt x="15803" y="9298"/>
                  <a:pt x="15974" y="9376"/>
                </a:cubicBezTo>
                <a:cubicBezTo>
                  <a:pt x="16277" y="9515"/>
                  <a:pt x="15938" y="9752"/>
                  <a:pt x="15825" y="9823"/>
                </a:cubicBezTo>
              </a:path>
              <a:path w="2283" h="3300">
                <a:moveTo>
                  <a:pt x="15280" y="10368"/>
                </a:moveTo>
                <a:cubicBezTo>
                  <a:pt x="15397" y="10310"/>
                  <a:pt x="15592" y="10221"/>
                  <a:pt x="15652" y="10418"/>
                </a:cubicBezTo>
                <a:cubicBezTo>
                  <a:pt x="15699" y="10573"/>
                  <a:pt x="15453" y="10860"/>
                  <a:pt x="15304" y="10716"/>
                </a:cubicBezTo>
                <a:cubicBezTo>
                  <a:pt x="15296" y="10683"/>
                  <a:pt x="15288" y="10649"/>
                  <a:pt x="15280" y="10616"/>
                </a:cubicBezTo>
                <a:cubicBezTo>
                  <a:pt x="15415" y="10493"/>
                  <a:pt x="15550" y="10496"/>
                  <a:pt x="15726" y="10592"/>
                </a:cubicBezTo>
                <a:cubicBezTo>
                  <a:pt x="15765" y="10630"/>
                  <a:pt x="15782" y="10632"/>
                  <a:pt x="15776" y="10666"/>
                </a:cubicBezTo>
              </a:path>
              <a:path w="2283" h="3300">
                <a:moveTo>
                  <a:pt x="16247" y="10120"/>
                </a:moveTo>
                <a:cubicBezTo>
                  <a:pt x="16075" y="10053"/>
                  <a:pt x="15947" y="10091"/>
                  <a:pt x="15850" y="10269"/>
                </a:cubicBezTo>
                <a:cubicBezTo>
                  <a:pt x="15850" y="10294"/>
                  <a:pt x="15850" y="10319"/>
                  <a:pt x="15850" y="10344"/>
                </a:cubicBezTo>
                <a:cubicBezTo>
                  <a:pt x="16030" y="10413"/>
                  <a:pt x="16250" y="10411"/>
                  <a:pt x="16321" y="10567"/>
                </a:cubicBezTo>
                <a:cubicBezTo>
                  <a:pt x="16217" y="10628"/>
                  <a:pt x="15905" y="10751"/>
                  <a:pt x="15999" y="10468"/>
                </a:cubicBezTo>
                <a:cubicBezTo>
                  <a:pt x="16056" y="10297"/>
                  <a:pt x="16309" y="10202"/>
                  <a:pt x="16197" y="10046"/>
                </a:cubicBezTo>
              </a:path>
              <a:path w="2283" h="3300">
                <a:moveTo>
                  <a:pt x="14560" y="11112"/>
                </a:moveTo>
                <a:cubicBezTo>
                  <a:pt x="15183" y="10988"/>
                  <a:pt x="15788" y="10894"/>
                  <a:pt x="16421" y="10840"/>
                </a:cubicBezTo>
                <a:cubicBezTo>
                  <a:pt x="16619" y="10822"/>
                  <a:pt x="16635" y="10814"/>
                  <a:pt x="16743" y="10815"/>
                </a:cubicBezTo>
              </a:path>
              <a:path w="2283" h="3300">
                <a:moveTo>
                  <a:pt x="16297" y="11088"/>
                </a:moveTo>
                <a:cubicBezTo>
                  <a:pt x="16365" y="11037"/>
                  <a:pt x="16669" y="10755"/>
                  <a:pt x="16718" y="10988"/>
                </a:cubicBezTo>
                <a:cubicBezTo>
                  <a:pt x="16751" y="11145"/>
                  <a:pt x="16564" y="11207"/>
                  <a:pt x="16470" y="11261"/>
                </a:cubicBezTo>
                <a:cubicBezTo>
                  <a:pt x="16462" y="11261"/>
                  <a:pt x="16454" y="11261"/>
                  <a:pt x="16446" y="11261"/>
                </a:cubicBezTo>
                <a:cubicBezTo>
                  <a:pt x="16593" y="11184"/>
                  <a:pt x="16897" y="11114"/>
                  <a:pt x="16842" y="11435"/>
                </a:cubicBezTo>
                <a:cubicBezTo>
                  <a:pt x="16790" y="11739"/>
                  <a:pt x="16475" y="11648"/>
                  <a:pt x="16297" y="11584"/>
                </a:cubicBezTo>
              </a:path>
              <a:path w="2283" h="3300">
                <a:moveTo>
                  <a:pt x="14684" y="8558"/>
                </a:moveTo>
                <a:cubicBezTo>
                  <a:pt x="14719" y="8716"/>
                  <a:pt x="14749" y="8869"/>
                  <a:pt x="14759" y="9029"/>
                </a:cubicBezTo>
              </a:path>
              <a:path w="2283" h="3300">
                <a:moveTo>
                  <a:pt x="15751" y="11162"/>
                </a:moveTo>
                <a:cubicBezTo>
                  <a:pt x="15584" y="11176"/>
                  <a:pt x="15454" y="11145"/>
                  <a:pt x="15429" y="11311"/>
                </a:cubicBezTo>
                <a:cubicBezTo>
                  <a:pt x="15429" y="11394"/>
                  <a:pt x="15429" y="11410"/>
                  <a:pt x="15429" y="11460"/>
                </a:cubicBezTo>
                <a:cubicBezTo>
                  <a:pt x="15563" y="11446"/>
                  <a:pt x="15689" y="11417"/>
                  <a:pt x="15825" y="11410"/>
                </a:cubicBezTo>
                <a:cubicBezTo>
                  <a:pt x="15882" y="11608"/>
                  <a:pt x="15789" y="11744"/>
                  <a:pt x="15553" y="11757"/>
                </a:cubicBezTo>
                <a:cubicBezTo>
                  <a:pt x="15503" y="11749"/>
                  <a:pt x="15454" y="11741"/>
                  <a:pt x="15404" y="11733"/>
                </a:cubicBezTo>
              </a:path>
              <a:path w="2283" h="3300">
                <a:moveTo>
                  <a:pt x="14784" y="11286"/>
                </a:moveTo>
                <a:cubicBezTo>
                  <a:pt x="14810" y="11448"/>
                  <a:pt x="14843" y="11616"/>
                  <a:pt x="14858" y="11782"/>
                </a:cubicBezTo>
                <a:cubicBezTo>
                  <a:pt x="14858" y="11807"/>
                  <a:pt x="14858" y="11832"/>
                  <a:pt x="14858" y="11857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19880" y="3000240"/>
            <a:ext cx="893880" cy="1197000"/>
          </a:xfrm>
          <a:custGeom>
            <a:avLst/>
            <a:gdLst/>
            <a:ahLst/>
            <a:rect l="l" t="t" r="r" b="b"/>
            <a:pathLst>
              <a:path w="2481" h="3325">
                <a:moveTo>
                  <a:pt x="18331" y="9079"/>
                </a:moveTo>
                <a:cubicBezTo>
                  <a:pt x="18386" y="9303"/>
                  <a:pt x="18366" y="9493"/>
                  <a:pt x="18355" y="9723"/>
                </a:cubicBezTo>
              </a:path>
              <a:path w="2481" h="3325">
                <a:moveTo>
                  <a:pt x="18901" y="9079"/>
                </a:moveTo>
                <a:cubicBezTo>
                  <a:pt x="18774" y="9181"/>
                  <a:pt x="18758" y="9178"/>
                  <a:pt x="18728" y="9327"/>
                </a:cubicBezTo>
                <a:cubicBezTo>
                  <a:pt x="18894" y="9431"/>
                  <a:pt x="19057" y="9474"/>
                  <a:pt x="19124" y="9649"/>
                </a:cubicBezTo>
                <a:cubicBezTo>
                  <a:pt x="18853" y="9757"/>
                  <a:pt x="18785" y="9681"/>
                  <a:pt x="18901" y="9376"/>
                </a:cubicBezTo>
                <a:cubicBezTo>
                  <a:pt x="18979" y="9220"/>
                  <a:pt x="18997" y="9199"/>
                  <a:pt x="19025" y="9103"/>
                </a:cubicBezTo>
              </a:path>
              <a:path w="2481" h="3325">
                <a:moveTo>
                  <a:pt x="19521" y="8930"/>
                </a:moveTo>
                <a:cubicBezTo>
                  <a:pt x="19298" y="9110"/>
                  <a:pt x="19282" y="9248"/>
                  <a:pt x="19323" y="9525"/>
                </a:cubicBezTo>
                <a:cubicBezTo>
                  <a:pt x="19498" y="9549"/>
                  <a:pt x="19835" y="9500"/>
                  <a:pt x="19769" y="9203"/>
                </a:cubicBezTo>
                <a:cubicBezTo>
                  <a:pt x="19676" y="9063"/>
                  <a:pt x="19653" y="9020"/>
                  <a:pt x="19546" y="8979"/>
                </a:cubicBezTo>
              </a:path>
              <a:path w="2481" h="3325">
                <a:moveTo>
                  <a:pt x="18653" y="9971"/>
                </a:moveTo>
                <a:cubicBezTo>
                  <a:pt x="18653" y="10164"/>
                  <a:pt x="18661" y="10355"/>
                  <a:pt x="18628" y="10542"/>
                </a:cubicBezTo>
              </a:path>
              <a:path w="2481" h="3325">
                <a:moveTo>
                  <a:pt x="19149" y="9996"/>
                </a:moveTo>
                <a:cubicBezTo>
                  <a:pt x="18961" y="10066"/>
                  <a:pt x="18928" y="10052"/>
                  <a:pt x="18876" y="10244"/>
                </a:cubicBezTo>
                <a:cubicBezTo>
                  <a:pt x="19006" y="10270"/>
                  <a:pt x="19120" y="10157"/>
                  <a:pt x="19248" y="10220"/>
                </a:cubicBezTo>
                <a:cubicBezTo>
                  <a:pt x="19273" y="10245"/>
                  <a:pt x="19298" y="10269"/>
                  <a:pt x="19323" y="10294"/>
                </a:cubicBezTo>
                <a:cubicBezTo>
                  <a:pt x="19295" y="10442"/>
                  <a:pt x="19223" y="10592"/>
                  <a:pt x="19025" y="10542"/>
                </a:cubicBezTo>
                <a:cubicBezTo>
                  <a:pt x="19000" y="10525"/>
                  <a:pt x="18976" y="10509"/>
                  <a:pt x="18951" y="10492"/>
                </a:cubicBezTo>
              </a:path>
              <a:path w="2481" h="3325">
                <a:moveTo>
                  <a:pt x="19447" y="9996"/>
                </a:moveTo>
                <a:cubicBezTo>
                  <a:pt x="19524" y="9935"/>
                  <a:pt x="19745" y="9790"/>
                  <a:pt x="19819" y="9947"/>
                </a:cubicBezTo>
                <a:cubicBezTo>
                  <a:pt x="19866" y="10047"/>
                  <a:pt x="19482" y="10298"/>
                  <a:pt x="19670" y="10145"/>
                </a:cubicBezTo>
                <a:cubicBezTo>
                  <a:pt x="19865" y="10213"/>
                  <a:pt x="19868" y="10203"/>
                  <a:pt x="19918" y="10393"/>
                </a:cubicBezTo>
                <a:cubicBezTo>
                  <a:pt x="19773" y="10497"/>
                  <a:pt x="19757" y="10484"/>
                  <a:pt x="19571" y="10468"/>
                </a:cubicBezTo>
              </a:path>
              <a:path w="2481" h="3325">
                <a:moveTo>
                  <a:pt x="17835" y="10840"/>
                </a:moveTo>
                <a:cubicBezTo>
                  <a:pt x="18330" y="10792"/>
                  <a:pt x="18828" y="10783"/>
                  <a:pt x="19323" y="10740"/>
                </a:cubicBezTo>
                <a:cubicBezTo>
                  <a:pt x="19655" y="10711"/>
                  <a:pt x="19984" y="10692"/>
                  <a:pt x="20315" y="10666"/>
                </a:cubicBezTo>
              </a:path>
              <a:path w="2481" h="3325">
                <a:moveTo>
                  <a:pt x="18678" y="8930"/>
                </a:moveTo>
                <a:cubicBezTo>
                  <a:pt x="18821" y="9115"/>
                  <a:pt x="18944" y="9329"/>
                  <a:pt x="19075" y="9525"/>
                </a:cubicBezTo>
                <a:cubicBezTo>
                  <a:pt x="19127" y="9602"/>
                  <a:pt x="19174" y="9686"/>
                  <a:pt x="19199" y="9773"/>
                </a:cubicBezTo>
              </a:path>
              <a:path w="2481" h="3325">
                <a:moveTo>
                  <a:pt x="18653" y="8483"/>
                </a:moveTo>
                <a:cubicBezTo>
                  <a:pt x="18653" y="8584"/>
                  <a:pt x="18664" y="8447"/>
                  <a:pt x="18802" y="8384"/>
                </a:cubicBezTo>
                <a:cubicBezTo>
                  <a:pt x="18844" y="8365"/>
                  <a:pt x="18862" y="8344"/>
                  <a:pt x="18901" y="8334"/>
                </a:cubicBezTo>
                <a:cubicBezTo>
                  <a:pt x="18909" y="8529"/>
                  <a:pt x="18867" y="8707"/>
                  <a:pt x="18852" y="8905"/>
                </a:cubicBezTo>
              </a:path>
              <a:path w="2481" h="3325">
                <a:moveTo>
                  <a:pt x="19149" y="8905"/>
                </a:moveTo>
                <a:cubicBezTo>
                  <a:pt x="19135" y="9020"/>
                  <a:pt x="19124" y="9114"/>
                  <a:pt x="19124" y="9227"/>
                </a:cubicBezTo>
              </a:path>
              <a:path w="2481" h="3325">
                <a:moveTo>
                  <a:pt x="19695" y="10964"/>
                </a:moveTo>
                <a:cubicBezTo>
                  <a:pt x="19835" y="10909"/>
                  <a:pt x="19966" y="10878"/>
                  <a:pt x="20117" y="10864"/>
                </a:cubicBezTo>
                <a:cubicBezTo>
                  <a:pt x="20060" y="11041"/>
                  <a:pt x="19982" y="11230"/>
                  <a:pt x="19943" y="11410"/>
                </a:cubicBezTo>
                <a:cubicBezTo>
                  <a:pt x="19943" y="11427"/>
                  <a:pt x="19943" y="11443"/>
                  <a:pt x="19943" y="11460"/>
                </a:cubicBezTo>
              </a:path>
              <a:path w="2481" h="3325">
                <a:moveTo>
                  <a:pt x="19199" y="11088"/>
                </a:moveTo>
                <a:cubicBezTo>
                  <a:pt x="19274" y="11054"/>
                  <a:pt x="19342" y="11034"/>
                  <a:pt x="19422" y="11013"/>
                </a:cubicBezTo>
                <a:cubicBezTo>
                  <a:pt x="19422" y="11255"/>
                  <a:pt x="19317" y="11327"/>
                  <a:pt x="19199" y="11534"/>
                </a:cubicBezTo>
                <a:cubicBezTo>
                  <a:pt x="19149" y="11621"/>
                  <a:pt x="19145" y="11615"/>
                  <a:pt x="19199" y="11658"/>
                </a:cubicBezTo>
                <a:cubicBezTo>
                  <a:pt x="19348" y="11571"/>
                  <a:pt x="19476" y="11479"/>
                  <a:pt x="19645" y="11435"/>
                </a:cubicBezTo>
                <a:cubicBezTo>
                  <a:pt x="19653" y="11435"/>
                  <a:pt x="19662" y="11435"/>
                  <a:pt x="19670" y="11435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26040" y="5330880"/>
            <a:ext cx="2394000" cy="322200"/>
          </a:xfrm>
          <a:custGeom>
            <a:avLst/>
            <a:gdLst/>
            <a:ahLst/>
            <a:rect l="l" t="t" r="r" b="b"/>
            <a:pathLst>
              <a:path w="6649" h="894">
                <a:moveTo>
                  <a:pt x="14238" y="15404"/>
                </a:moveTo>
                <a:cubicBezTo>
                  <a:pt x="14558" y="15305"/>
                  <a:pt x="14664" y="15272"/>
                  <a:pt x="14883" y="15230"/>
                </a:cubicBezTo>
              </a:path>
              <a:path w="6649" h="894">
                <a:moveTo>
                  <a:pt x="18579" y="14808"/>
                </a:moveTo>
                <a:lnTo>
                  <a:pt x="18579" y="14808"/>
                </a:lnTo>
              </a:path>
              <a:path w="6649" h="894">
                <a:moveTo>
                  <a:pt x="20762" y="14858"/>
                </a:moveTo>
                <a:cubicBezTo>
                  <a:pt x="20807" y="15140"/>
                  <a:pt x="20844" y="15420"/>
                  <a:pt x="20886" y="15701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5340240"/>
            <a:ext cx="669960" cy="446040"/>
          </a:xfrm>
          <a:custGeom>
            <a:avLst/>
            <a:gdLst/>
            <a:ahLst/>
            <a:rect l="l" t="t" r="r" b="b"/>
            <a:pathLst>
              <a:path w="1861" h="1241">
                <a:moveTo>
                  <a:pt x="13122" y="15627"/>
                </a:moveTo>
                <a:cubicBezTo>
                  <a:pt x="13126" y="15780"/>
                  <a:pt x="13136" y="15922"/>
                  <a:pt x="13146" y="16073"/>
                </a:cubicBezTo>
                <a:cubicBezTo>
                  <a:pt x="13112" y="15731"/>
                  <a:pt x="13121" y="15543"/>
                  <a:pt x="13295" y="15255"/>
                </a:cubicBezTo>
                <a:cubicBezTo>
                  <a:pt x="13631" y="15358"/>
                  <a:pt x="13628" y="15535"/>
                  <a:pt x="13643" y="15900"/>
                </a:cubicBezTo>
                <a:cubicBezTo>
                  <a:pt x="13643" y="15925"/>
                  <a:pt x="13643" y="15949"/>
                  <a:pt x="13643" y="15974"/>
                </a:cubicBezTo>
              </a:path>
              <a:path w="1861" h="1241">
                <a:moveTo>
                  <a:pt x="13940" y="15329"/>
                </a:moveTo>
                <a:cubicBezTo>
                  <a:pt x="13864" y="15620"/>
                  <a:pt x="13838" y="15706"/>
                  <a:pt x="13940" y="15974"/>
                </a:cubicBezTo>
                <a:cubicBezTo>
                  <a:pt x="14219" y="15951"/>
                  <a:pt x="14424" y="15748"/>
                  <a:pt x="14213" y="15429"/>
                </a:cubicBezTo>
                <a:cubicBezTo>
                  <a:pt x="14079" y="15339"/>
                  <a:pt x="14046" y="15309"/>
                  <a:pt x="13940" y="15304"/>
                </a:cubicBezTo>
              </a:path>
              <a:path w="1861" h="1241">
                <a:moveTo>
                  <a:pt x="14387" y="14833"/>
                </a:moveTo>
                <a:cubicBezTo>
                  <a:pt x="14461" y="15151"/>
                  <a:pt x="14462" y="15518"/>
                  <a:pt x="14560" y="15825"/>
                </a:cubicBezTo>
                <a:cubicBezTo>
                  <a:pt x="14649" y="16104"/>
                  <a:pt x="14850" y="15911"/>
                  <a:pt x="14982" y="15801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03920" y="544680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6495" y="15329"/>
                </a:moveTo>
                <a:cubicBezTo>
                  <a:pt x="16444" y="15226"/>
                  <a:pt x="16425" y="15189"/>
                  <a:pt x="16371" y="15131"/>
                </a:cubicBezTo>
                <a:cubicBezTo>
                  <a:pt x="16286" y="15208"/>
                  <a:pt x="15870" y="15709"/>
                  <a:pt x="16222" y="15776"/>
                </a:cubicBezTo>
                <a:cubicBezTo>
                  <a:pt x="16481" y="15825"/>
                  <a:pt x="16450" y="15452"/>
                  <a:pt x="16470" y="15304"/>
                </a:cubicBezTo>
                <a:cubicBezTo>
                  <a:pt x="16563" y="15564"/>
                  <a:pt x="16582" y="15642"/>
                  <a:pt x="16818" y="15776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5330880"/>
            <a:ext cx="1438200" cy="571320"/>
          </a:xfrm>
          <a:custGeom>
            <a:avLst/>
            <a:gdLst/>
            <a:ahLst/>
            <a:rect l="l" t="t" r="r" b="b"/>
            <a:pathLst>
              <a:path w="3995" h="1589">
                <a:moveTo>
                  <a:pt x="17462" y="14808"/>
                </a:moveTo>
                <a:cubicBezTo>
                  <a:pt x="17602" y="15135"/>
                  <a:pt x="17523" y="15667"/>
                  <a:pt x="17711" y="15949"/>
                </a:cubicBezTo>
                <a:cubicBezTo>
                  <a:pt x="17866" y="16012"/>
                  <a:pt x="17940" y="16018"/>
                  <a:pt x="18058" y="15925"/>
                </a:cubicBezTo>
              </a:path>
              <a:path w="3995" h="1589">
                <a:moveTo>
                  <a:pt x="17512" y="15478"/>
                </a:moveTo>
                <a:cubicBezTo>
                  <a:pt x="17865" y="15398"/>
                  <a:pt x="18122" y="15277"/>
                  <a:pt x="18331" y="15652"/>
                </a:cubicBezTo>
                <a:cubicBezTo>
                  <a:pt x="18350" y="15729"/>
                  <a:pt x="18373" y="15778"/>
                  <a:pt x="18331" y="15726"/>
                </a:cubicBezTo>
                <a:cubicBezTo>
                  <a:pt x="18339" y="15505"/>
                  <a:pt x="18328" y="15296"/>
                  <a:pt x="18579" y="15205"/>
                </a:cubicBezTo>
                <a:cubicBezTo>
                  <a:pt x="18748" y="15144"/>
                  <a:pt x="18783" y="15340"/>
                  <a:pt x="18802" y="15453"/>
                </a:cubicBezTo>
                <a:cubicBezTo>
                  <a:pt x="18825" y="15591"/>
                  <a:pt x="18822" y="15689"/>
                  <a:pt x="18827" y="15825"/>
                </a:cubicBezTo>
              </a:path>
              <a:path w="3995" h="1589">
                <a:moveTo>
                  <a:pt x="19323" y="15453"/>
                </a:moveTo>
                <a:cubicBezTo>
                  <a:pt x="19305" y="15349"/>
                  <a:pt x="19273" y="15272"/>
                  <a:pt x="19224" y="15180"/>
                </a:cubicBezTo>
                <a:cubicBezTo>
                  <a:pt x="19145" y="15274"/>
                  <a:pt x="18860" y="15736"/>
                  <a:pt x="19199" y="15751"/>
                </a:cubicBezTo>
                <a:cubicBezTo>
                  <a:pt x="19437" y="15762"/>
                  <a:pt x="19367" y="15466"/>
                  <a:pt x="19372" y="15329"/>
                </a:cubicBezTo>
                <a:cubicBezTo>
                  <a:pt x="19384" y="15456"/>
                  <a:pt x="19447" y="15740"/>
                  <a:pt x="19645" y="15677"/>
                </a:cubicBezTo>
                <a:cubicBezTo>
                  <a:pt x="19807" y="15626"/>
                  <a:pt x="19733" y="15171"/>
                  <a:pt x="19769" y="15478"/>
                </a:cubicBezTo>
                <a:cubicBezTo>
                  <a:pt x="19777" y="15528"/>
                  <a:pt x="19786" y="15577"/>
                  <a:pt x="19794" y="15627"/>
                </a:cubicBezTo>
                <a:cubicBezTo>
                  <a:pt x="19794" y="15644"/>
                  <a:pt x="19794" y="15660"/>
                  <a:pt x="19794" y="15677"/>
                </a:cubicBezTo>
                <a:cubicBezTo>
                  <a:pt x="19794" y="15495"/>
                  <a:pt x="19719" y="15209"/>
                  <a:pt x="19893" y="15081"/>
                </a:cubicBezTo>
                <a:cubicBezTo>
                  <a:pt x="20158" y="14885"/>
                  <a:pt x="20274" y="15539"/>
                  <a:pt x="20290" y="15652"/>
                </a:cubicBezTo>
              </a:path>
              <a:path w="3995" h="1589">
                <a:moveTo>
                  <a:pt x="20563" y="15032"/>
                </a:moveTo>
                <a:cubicBezTo>
                  <a:pt x="20380" y="15270"/>
                  <a:pt x="20214" y="15443"/>
                  <a:pt x="20414" y="15677"/>
                </a:cubicBezTo>
                <a:cubicBezTo>
                  <a:pt x="20603" y="15488"/>
                  <a:pt x="20613" y="15389"/>
                  <a:pt x="20613" y="15106"/>
                </a:cubicBezTo>
                <a:cubicBezTo>
                  <a:pt x="20687" y="15403"/>
                  <a:pt x="20805" y="15739"/>
                  <a:pt x="20762" y="16049"/>
                </a:cubicBezTo>
                <a:cubicBezTo>
                  <a:pt x="20721" y="16347"/>
                  <a:pt x="20338" y="16543"/>
                  <a:pt x="20092" y="16321"/>
                </a:cubicBezTo>
                <a:cubicBezTo>
                  <a:pt x="20075" y="16272"/>
                  <a:pt x="20059" y="16222"/>
                  <a:pt x="20042" y="16173"/>
                </a:cubicBezTo>
              </a:path>
              <a:path w="3995" h="1589">
                <a:moveTo>
                  <a:pt x="21084" y="15280"/>
                </a:moveTo>
                <a:cubicBezTo>
                  <a:pt x="21197" y="15265"/>
                  <a:pt x="21332" y="15348"/>
                  <a:pt x="21332" y="15205"/>
                </a:cubicBezTo>
                <a:cubicBezTo>
                  <a:pt x="21309" y="15093"/>
                  <a:pt x="21312" y="15059"/>
                  <a:pt x="21233" y="15032"/>
                </a:cubicBezTo>
                <a:cubicBezTo>
                  <a:pt x="21136" y="15116"/>
                  <a:pt x="20893" y="15432"/>
                  <a:pt x="21134" y="15553"/>
                </a:cubicBezTo>
                <a:cubicBezTo>
                  <a:pt x="21309" y="15553"/>
                  <a:pt x="21369" y="15552"/>
                  <a:pt x="21456" y="15453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-Angle-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type of construction, you are provided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side l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asure of one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your triangle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draw one of the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draw the angle on on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o the given length for s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side 2 back to the endpoint of your first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200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44197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53341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6629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562720" y="41144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4800240" y="365724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486040" y="457164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562360" y="586692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5867280"/>
            <a:ext cx="342900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05640" y="336708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875" y="9351"/>
                </a:moveTo>
                <a:cubicBezTo>
                  <a:pt x="15867" y="9351"/>
                  <a:pt x="15858" y="9351"/>
                  <a:pt x="15850" y="9351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81760" y="3160800"/>
            <a:ext cx="776160" cy="331560"/>
          </a:xfrm>
          <a:custGeom>
            <a:avLst/>
            <a:gdLst/>
            <a:ahLst/>
            <a:rect l="l" t="t" r="r" b="b"/>
            <a:pathLst>
              <a:path w="2159" h="919">
                <a:moveTo>
                  <a:pt x="14263" y="8781"/>
                </a:moveTo>
                <a:cubicBezTo>
                  <a:pt x="14213" y="8798"/>
                  <a:pt x="14221" y="9136"/>
                  <a:pt x="14213" y="9178"/>
                </a:cubicBezTo>
                <a:cubicBezTo>
                  <a:pt x="14203" y="9236"/>
                  <a:pt x="14106" y="9534"/>
                  <a:pt x="14139" y="9550"/>
                </a:cubicBezTo>
              </a:path>
              <a:path w="2159" h="919">
                <a:moveTo>
                  <a:pt x="14635" y="9376"/>
                </a:moveTo>
                <a:cubicBezTo>
                  <a:pt x="14687" y="9290"/>
                  <a:pt x="14658" y="9232"/>
                  <a:pt x="14610" y="9153"/>
                </a:cubicBezTo>
                <a:cubicBezTo>
                  <a:pt x="14438" y="9153"/>
                  <a:pt x="14249" y="9330"/>
                  <a:pt x="14337" y="9550"/>
                </a:cubicBezTo>
                <a:cubicBezTo>
                  <a:pt x="14423" y="9764"/>
                  <a:pt x="14657" y="9407"/>
                  <a:pt x="14684" y="9376"/>
                </a:cubicBezTo>
                <a:cubicBezTo>
                  <a:pt x="14692" y="9343"/>
                  <a:pt x="14701" y="9310"/>
                  <a:pt x="14709" y="9277"/>
                </a:cubicBezTo>
                <a:cubicBezTo>
                  <a:pt x="14703" y="9300"/>
                  <a:pt x="14749" y="9650"/>
                  <a:pt x="14833" y="9575"/>
                </a:cubicBezTo>
                <a:cubicBezTo>
                  <a:pt x="14850" y="9534"/>
                  <a:pt x="14866" y="9492"/>
                  <a:pt x="14883" y="9451"/>
                </a:cubicBezTo>
              </a:path>
              <a:path w="2159" h="919">
                <a:moveTo>
                  <a:pt x="14908" y="9054"/>
                </a:moveTo>
                <a:cubicBezTo>
                  <a:pt x="14927" y="9229"/>
                  <a:pt x="14935" y="9401"/>
                  <a:pt x="14957" y="9575"/>
                </a:cubicBezTo>
                <a:cubicBezTo>
                  <a:pt x="14988" y="9341"/>
                  <a:pt x="15050" y="9270"/>
                  <a:pt x="15255" y="9178"/>
                </a:cubicBezTo>
                <a:cubicBezTo>
                  <a:pt x="15305" y="9309"/>
                  <a:pt x="15377" y="9581"/>
                  <a:pt x="15106" y="9550"/>
                </a:cubicBezTo>
                <a:cubicBezTo>
                  <a:pt x="15017" y="9505"/>
                  <a:pt x="14987" y="9499"/>
                  <a:pt x="14982" y="9426"/>
                </a:cubicBezTo>
              </a:path>
              <a:path w="2159" h="919">
                <a:moveTo>
                  <a:pt x="15453" y="9277"/>
                </a:moveTo>
                <a:cubicBezTo>
                  <a:pt x="15534" y="9287"/>
                  <a:pt x="15702" y="9294"/>
                  <a:pt x="15776" y="9327"/>
                </a:cubicBezTo>
                <a:cubicBezTo>
                  <a:pt x="15776" y="9351"/>
                  <a:pt x="15776" y="9359"/>
                  <a:pt x="15801" y="9351"/>
                </a:cubicBezTo>
                <a:cubicBezTo>
                  <a:pt x="15782" y="9276"/>
                  <a:pt x="15691" y="9193"/>
                  <a:pt x="15602" y="9203"/>
                </a:cubicBezTo>
                <a:cubicBezTo>
                  <a:pt x="15364" y="9230"/>
                  <a:pt x="15497" y="9510"/>
                  <a:pt x="15677" y="9525"/>
                </a:cubicBezTo>
                <a:cubicBezTo>
                  <a:pt x="15869" y="9501"/>
                  <a:pt x="15929" y="9494"/>
                  <a:pt x="16049" y="9451"/>
                </a:cubicBezTo>
              </a:path>
              <a:path w="2159" h="919">
                <a:moveTo>
                  <a:pt x="16197" y="8979"/>
                </a:moveTo>
                <a:cubicBezTo>
                  <a:pt x="16197" y="9207"/>
                  <a:pt x="16225" y="9423"/>
                  <a:pt x="16247" y="9649"/>
                </a:cubicBezTo>
                <a:cubicBezTo>
                  <a:pt x="16260" y="9784"/>
                  <a:pt x="16250" y="9592"/>
                  <a:pt x="16247" y="9575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8200" y="4589640"/>
            <a:ext cx="7491600" cy="2152440"/>
          </a:xfrm>
          <a:custGeom>
            <a:avLst/>
            <a:gdLst/>
            <a:ahLst/>
            <a:rect l="l" t="t" r="r" b="b"/>
            <a:pathLst>
              <a:path w="20812" h="5979">
                <a:moveTo>
                  <a:pt x="24805" y="13543"/>
                </a:moveTo>
                <a:lnTo>
                  <a:pt x="24805" y="13543"/>
                </a:lnTo>
              </a:path>
              <a:path w="20812" h="5979">
                <a:moveTo>
                  <a:pt x="23986" y="12750"/>
                </a:moveTo>
                <a:cubicBezTo>
                  <a:pt x="23998" y="12867"/>
                  <a:pt x="23981" y="12919"/>
                  <a:pt x="24061" y="12998"/>
                </a:cubicBezTo>
              </a:path>
              <a:path w="20812" h="5979">
                <a:moveTo>
                  <a:pt x="3994" y="18728"/>
                </a:moveTo>
                <a:lnTo>
                  <a:pt x="3994" y="18728"/>
                </a:ln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70880" y="4276800"/>
            <a:ext cx="17280" cy="108000"/>
          </a:xfrm>
          <a:custGeom>
            <a:avLst/>
            <a:gdLst/>
            <a:ahLst/>
            <a:rect l="l" t="t" r="r" b="b"/>
            <a:pathLst>
              <a:path w="51" h="299">
                <a:moveTo>
                  <a:pt x="21307" y="11931"/>
                </a:moveTo>
                <a:cubicBezTo>
                  <a:pt x="21307" y="11896"/>
                  <a:pt x="21316" y="11883"/>
                  <a:pt x="21357" y="11881"/>
                </a:cubicBezTo>
                <a:cubicBezTo>
                  <a:pt x="21357" y="11977"/>
                  <a:pt x="21346" y="12060"/>
                  <a:pt x="21332" y="12154"/>
                </a:cubicBezTo>
                <a:cubicBezTo>
                  <a:pt x="21332" y="12179"/>
                  <a:pt x="21332" y="12187"/>
                  <a:pt x="21332" y="12154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02200" y="4089240"/>
            <a:ext cx="428760" cy="295560"/>
          </a:xfrm>
          <a:custGeom>
            <a:avLst/>
            <a:gdLst/>
            <a:ahLst/>
            <a:rect l="l" t="t" r="r" b="b"/>
            <a:pathLst>
              <a:path w="1192" h="819">
                <a:moveTo>
                  <a:pt x="16396" y="11658"/>
                </a:moveTo>
                <a:cubicBezTo>
                  <a:pt x="16396" y="11800"/>
                  <a:pt x="16417" y="11938"/>
                  <a:pt x="16421" y="12080"/>
                </a:cubicBezTo>
                <a:cubicBezTo>
                  <a:pt x="16422" y="12121"/>
                  <a:pt x="16421" y="12195"/>
                  <a:pt x="16421" y="12154"/>
                </a:cubicBezTo>
              </a:path>
              <a:path w="1192" h="819">
                <a:moveTo>
                  <a:pt x="16694" y="11832"/>
                </a:moveTo>
                <a:cubicBezTo>
                  <a:pt x="16702" y="11824"/>
                  <a:pt x="16710" y="11815"/>
                  <a:pt x="16718" y="11807"/>
                </a:cubicBezTo>
                <a:cubicBezTo>
                  <a:pt x="16668" y="11730"/>
                  <a:pt x="16591" y="11837"/>
                  <a:pt x="16570" y="11906"/>
                </a:cubicBezTo>
                <a:cubicBezTo>
                  <a:pt x="16551" y="12017"/>
                  <a:pt x="16516" y="12039"/>
                  <a:pt x="16570" y="12080"/>
                </a:cubicBezTo>
                <a:cubicBezTo>
                  <a:pt x="16684" y="12013"/>
                  <a:pt x="16696" y="11983"/>
                  <a:pt x="16743" y="11857"/>
                </a:cubicBezTo>
                <a:cubicBezTo>
                  <a:pt x="16743" y="11918"/>
                  <a:pt x="16740" y="11989"/>
                  <a:pt x="16793" y="12030"/>
                </a:cubicBezTo>
                <a:cubicBezTo>
                  <a:pt x="16833" y="12030"/>
                  <a:pt x="16852" y="12020"/>
                  <a:pt x="16867" y="11981"/>
                </a:cubicBezTo>
              </a:path>
              <a:path w="1192" h="819">
                <a:moveTo>
                  <a:pt x="16842" y="11534"/>
                </a:moveTo>
                <a:cubicBezTo>
                  <a:pt x="16879" y="11691"/>
                  <a:pt x="16891" y="11853"/>
                  <a:pt x="16942" y="12005"/>
                </a:cubicBezTo>
                <a:cubicBezTo>
                  <a:pt x="16961" y="11868"/>
                  <a:pt x="16983" y="11826"/>
                  <a:pt x="17090" y="11757"/>
                </a:cubicBezTo>
                <a:cubicBezTo>
                  <a:pt x="17131" y="11847"/>
                  <a:pt x="17180" y="11946"/>
                  <a:pt x="17090" y="12030"/>
                </a:cubicBezTo>
                <a:cubicBezTo>
                  <a:pt x="17041" y="12055"/>
                  <a:pt x="17025" y="12063"/>
                  <a:pt x="17066" y="12005"/>
                </a:cubicBezTo>
              </a:path>
              <a:path w="1192" h="819">
                <a:moveTo>
                  <a:pt x="17264" y="11832"/>
                </a:moveTo>
                <a:cubicBezTo>
                  <a:pt x="17319" y="11787"/>
                  <a:pt x="17351" y="11771"/>
                  <a:pt x="17388" y="11708"/>
                </a:cubicBezTo>
                <a:cubicBezTo>
                  <a:pt x="17322" y="11774"/>
                  <a:pt x="17284" y="11817"/>
                  <a:pt x="17264" y="11906"/>
                </a:cubicBezTo>
                <a:cubicBezTo>
                  <a:pt x="17418" y="11945"/>
                  <a:pt x="17378" y="11939"/>
                  <a:pt x="17512" y="11832"/>
                </a:cubicBezTo>
              </a:path>
              <a:path w="1192" h="819">
                <a:moveTo>
                  <a:pt x="17537" y="11361"/>
                </a:moveTo>
                <a:cubicBezTo>
                  <a:pt x="17537" y="11557"/>
                  <a:pt x="17559" y="11737"/>
                  <a:pt x="17587" y="11931"/>
                </a:cubicBezTo>
                <a:cubicBezTo>
                  <a:pt x="17587" y="11939"/>
                  <a:pt x="17587" y="11948"/>
                  <a:pt x="17587" y="11956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65960" y="4010040"/>
            <a:ext cx="52200" cy="88920"/>
          </a:xfrm>
          <a:custGeom>
            <a:avLst/>
            <a:gdLst/>
            <a:ahLst/>
            <a:rect l="l" t="t" r="r" b="b"/>
            <a:pathLst>
              <a:path w="149" h="249">
                <a:moveTo>
                  <a:pt x="18058" y="11137"/>
                </a:moveTo>
                <a:cubicBezTo>
                  <a:pt x="18006" y="11207"/>
                  <a:pt x="17974" y="11271"/>
                  <a:pt x="17959" y="11361"/>
                </a:cubicBezTo>
                <a:cubicBezTo>
                  <a:pt x="17959" y="11369"/>
                  <a:pt x="17959" y="11377"/>
                  <a:pt x="17959" y="11385"/>
                </a:cubicBezTo>
                <a:cubicBezTo>
                  <a:pt x="18044" y="11339"/>
                  <a:pt x="18148" y="11275"/>
                  <a:pt x="18083" y="11162"/>
                </a:cubicBezTo>
                <a:cubicBezTo>
                  <a:pt x="18053" y="11132"/>
                  <a:pt x="18039" y="11127"/>
                  <a:pt x="18008" y="11162"/>
                </a:cubicBezTo>
              </a:path>
            </a:pathLst>
          </a:custGeom>
          <a:noFill/>
          <a:ln cap="rnd" w="349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-Angle-Sid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apply these steps to the following clues: 8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° angle and two sides that are 6 and 4 ½ inches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ractor Work 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Numbere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35:01Z</dcterms:created>
  <dc:creator>demcgra</dc:creator>
  <dc:description/>
  <dc:language>en-US</dc:language>
  <cp:lastModifiedBy>demcgra</cp:lastModifiedBy>
  <dcterms:modified xsi:type="dcterms:W3CDTF">2012-02-02T20:16:30Z</dcterms:modified>
  <cp:revision>2</cp:revision>
  <dc:subject/>
  <dc:title>Warm-up</dc:title>
</cp:coreProperties>
</file>